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_rels/presentation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</p:sldMasterIdLst>
  <p:sldIdLst>
    <p:sldId id="256" r:id="rId111"/>
    <p:sldId id="257" r:id="rId112"/>
    <p:sldId id="258" r:id="rId113"/>
    <p:sldId id="259" r:id="rId114"/>
    <p:sldId id="260" r:id="rId115"/>
    <p:sldId id="261" r:id="rId116"/>
    <p:sldId id="262" r:id="rId117"/>
    <p:sldId id="263" r:id="rId118"/>
    <p:sldId id="264" r:id="rId119"/>
    <p:sldId id="265" r:id="rId120"/>
    <p:sldId id="266" r:id="rId121"/>
    <p:sldId id="267" r:id="rId122"/>
    <p:sldId id="268" r:id="rId123"/>
    <p:sldId id="269" r:id="rId124"/>
    <p:sldId id="270" r:id="rId125"/>
    <p:sldId id="271" r:id="rId126"/>
    <p:sldId id="272" r:id="rId127"/>
    <p:sldId id="273" r:id="rId128"/>
    <p:sldId id="274" r:id="rId129"/>
    <p:sldId id="275" r:id="rId130"/>
    <p:sldId id="276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" Target="slides/slide1.xml"/><Relationship Id="rId112" Type="http://schemas.openxmlformats.org/officeDocument/2006/relationships/slide" Target="slides/slide2.xml"/><Relationship Id="rId113" Type="http://schemas.openxmlformats.org/officeDocument/2006/relationships/slide" Target="slides/slide3.xml"/><Relationship Id="rId114" Type="http://schemas.openxmlformats.org/officeDocument/2006/relationships/slide" Target="slides/slide4.xml"/><Relationship Id="rId115" Type="http://schemas.openxmlformats.org/officeDocument/2006/relationships/slide" Target="slides/slide5.xml"/><Relationship Id="rId116" Type="http://schemas.openxmlformats.org/officeDocument/2006/relationships/slide" Target="slides/slide6.xml"/><Relationship Id="rId117" Type="http://schemas.openxmlformats.org/officeDocument/2006/relationships/slide" Target="slides/slide7.xml"/><Relationship Id="rId118" Type="http://schemas.openxmlformats.org/officeDocument/2006/relationships/slide" Target="slides/slide8.xml"/><Relationship Id="rId119" Type="http://schemas.openxmlformats.org/officeDocument/2006/relationships/slide" Target="slides/slide9.xml"/><Relationship Id="rId120" Type="http://schemas.openxmlformats.org/officeDocument/2006/relationships/slide" Target="slides/slide10.xml"/><Relationship Id="rId121" Type="http://schemas.openxmlformats.org/officeDocument/2006/relationships/slide" Target="slides/slide11.xml"/><Relationship Id="rId122" Type="http://schemas.openxmlformats.org/officeDocument/2006/relationships/slide" Target="slides/slide12.xml"/><Relationship Id="rId123" Type="http://schemas.openxmlformats.org/officeDocument/2006/relationships/slide" Target="slides/slide13.xml"/><Relationship Id="rId124" Type="http://schemas.openxmlformats.org/officeDocument/2006/relationships/slide" Target="slides/slide14.xml"/><Relationship Id="rId125" Type="http://schemas.openxmlformats.org/officeDocument/2006/relationships/slide" Target="slides/slide15.xml"/><Relationship Id="rId126" Type="http://schemas.openxmlformats.org/officeDocument/2006/relationships/slide" Target="slides/slide16.xml"/><Relationship Id="rId127" Type="http://schemas.openxmlformats.org/officeDocument/2006/relationships/slide" Target="slides/slide17.xml"/><Relationship Id="rId128" Type="http://schemas.openxmlformats.org/officeDocument/2006/relationships/slide" Target="slides/slide18.xml"/><Relationship Id="rId129" Type="http://schemas.openxmlformats.org/officeDocument/2006/relationships/slide" Target="slides/slide19.xml"/><Relationship Id="rId130" Type="http://schemas.openxmlformats.org/officeDocument/2006/relationships/slide" Target="slides/slide20.xml"/><Relationship Id="rId131" Type="http://schemas.openxmlformats.org/officeDocument/2006/relationships/slide" Target="slides/slide21.xml"/><Relationship Id="rId1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870-E8FE-49B1-879F-972ABCBA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6F5-A77F-46A0-8DBE-10D02E3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D4154-1480-44E1-9A04-14E0FF1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7319959-05B4-47BA-8925-99EE495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89A47C2-BB55-448D-83B0-7CD7AD20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CE6BD86-E97C-492D-9144-8EAD4CA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26D534E-020F-4DA7-AA2E-EC3FE40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0CBFC00-4AB6-4FEC-8621-3FEC4BC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539398A-F08C-4C40-8212-DE131A06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0328950-1B19-462C-8630-6C9BCF43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0D01A76-59E7-4C9F-8A7E-96496860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E7C975D-753E-4357-A689-98EC3D6A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B47BC55-9235-4E4E-9DC9-76D283DE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262B-10DD-4F79-8006-C46F845C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71F4A1F-3C5E-4645-AAA5-D1E134B4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047CF6F-88DE-4C45-9C62-E2C7869C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264A042-66D8-4D0D-80D7-F88F0ABA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711A1FC-358C-4F45-BE9C-ADA842B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2E7698E-101A-4E6C-B9AD-BEFB124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529B46-4881-4D0C-B450-5861D0A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660B940-E36C-4FBC-91DE-02BF807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91D74E9-3F0D-460B-BCDC-720A07D5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AF6C261-A374-4182-85F4-AF968FB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A95E01-E220-41A0-B340-8122A7AB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6827B-2CE7-47D9-9B1A-F0EAA9B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D7041EE-0506-450F-B01B-79B583CE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B812C29-B896-4F82-8738-1E1D78A8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D7CBDCE-AF86-4AFF-89BE-4CD0A57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AF8E75E-8B02-45BF-A476-63FAA084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AC81040-ED72-493F-AB59-389879A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7FF2D16-B2C6-41A3-8380-E864EE4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2B8014B-21D8-486A-804A-0937B4F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F431B15-7A80-4B68-9206-CCE7E70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73BAFC6-1098-4FF2-8B3C-0507D35C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5F5938C-EFDE-4BD5-BC05-47110CB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9F183-B9C2-4A93-887C-13822B1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58B8E8B-9C53-4F0D-9A91-0FB7A98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E0CA37B-E8B2-4537-A919-DA9FE6B2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82C3813-03C2-4EFF-8B50-8F5C9573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59D4612-6E37-42B9-ADA2-128ACFB9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0C26043-FC6E-4FDD-888C-7FC9F34B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412B7D4-84DE-4D47-8839-509AFC1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455BB09-7FA0-42BD-8501-C0C442F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88F39D5-CEB4-4711-AEAC-4CC1713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8D4DC51-4470-4FD0-A1A0-B53DE96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8825B4F-4B12-47B3-86E0-FAA4E2D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CB104-7C94-4C6B-A4AC-05562D3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BF49BB5-7B12-45A2-9E9E-535D08C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3031FCD-9324-457C-899F-3AF6CDC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0EECFA3-8DBD-4435-8DE6-C4FC29C7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B6886F5-1B7F-4447-9172-B8568D8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0018418-2FE9-4613-823B-F92F94CD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126BF2F-03A9-4E9E-83DA-DFF64749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E2776CB-F7BC-426E-981F-98581C5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7A977A8-08EB-4EFF-BB9D-574D5E7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5932010-0314-4103-9A88-AE3F7B2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A002498-2220-421A-820D-C0028EFD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7DCB-AB03-4863-83A3-72F4308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0C89CC7-6F97-44C1-B0D1-D781D07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05C62EB-C929-48F2-8A03-B32A9B5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E8FB4D5-B94D-4C17-8021-EBB1735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60F1154-C3AF-452D-A25B-6EDDF04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5A23888-AE9D-49C4-9EC0-BE34781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0DB85D6-955B-44E7-81EA-ACD97295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1525866-FF3D-44F5-A27E-5588F076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5C65F3D-8DEF-44DC-9013-5E860F5E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BDF3E0E-98E6-45DE-A2E7-3D9433A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58C653D-1E76-457D-83C8-31773B8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E0EE-1380-45C3-93EA-E676B18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8C05827-3FDF-41FE-BA0C-919F15C6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4F1CF34-9512-4F28-BBD9-1BE3D38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58B59DA-8991-4A64-BCDF-7E6C73A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1718B5C-8AC1-48A1-A309-CC0323B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D87E134-AD2A-4107-B99A-45821A3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9DCAAAA-B00E-4AE3-AFA2-5F5BD84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B080C33-EFC9-47B4-979D-503D393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FE6E286-CD1A-4B40-B592-E3288FB6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0A239C7-0D89-4C43-8DCC-159A6E3B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54BC563-5E49-4E8B-B9D0-81A66543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FC69-B385-42FA-BA11-31913F1D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84DCFC9-7E02-4C02-814B-4494ED59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473C8FB-B3DD-4180-945C-F35D0F47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AD360CB-6EB1-45CC-8566-4A85320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E3349BA-B3C9-463B-B910-A5E1289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BA4C4AE-AD71-4888-89ED-5619CBF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2C6B7BE-1F08-42F7-AC5B-5D347FB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296F367-7125-43BE-9E65-7E176116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F57E98B-A542-4068-819D-3A37180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7A6ABFB-5728-4900-B2A4-87B69068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E2C8C37-E16A-4D52-B9A6-AF5F9DA0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115E9-6791-4006-9F88-F8D9273D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29614A7-A7C0-456F-91D4-BC1B496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ADA50C0-4278-468A-BFB9-473F2068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C3193F3-8178-46C9-9E60-7277D4A2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F4FCBFF-F153-4669-AEF0-CC1694D6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0443A49-7067-49A0-A80E-12C01CC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18BF26E-F7B1-4C9D-B8F7-43C636E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B45ABC6-7567-449A-B240-96815B3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5C94F10-4A9D-493A-8060-E7255FC5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E314D1D-08C1-491B-8AE6-34F3C1B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7AE6B9E-AB5C-47B2-93DF-CDCECF4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ADEF6-1543-4D73-9047-15E04D26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4E792DE-7E42-45DE-8C51-CF52E26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81397C7-2A8E-41C7-BECD-D6A73E1C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A405934-E5FB-4295-BC63-59B867C7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AB5102A-1807-439B-B127-4D340AF8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2EBE6D3-1104-440D-B537-3D90E27B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799BF1D-79D4-4078-ACB5-890FFBD8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2A7339C-9D48-4FDA-8375-8AB8A05A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902E07D-1B2F-4BA2-A78D-37276A6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B5B1E6D-7FD4-42B5-8670-69EA42BF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5950061-2F38-483C-B171-F3A3172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B12-CF77-44E1-BD53-722BC3FD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B6B7-1336-4F51-89DF-470DA56E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E692533-BC95-49C7-85FF-A0199E6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8F8E0E1-A0AF-44BB-B92F-860BA63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67C7523-BDFB-4A88-9210-3D583A83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742D86B-8B1F-40BD-BA79-A89514B1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76A0242-00F3-4BBD-87D7-C668EF13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49CA148-86BC-4B9F-B25C-8A5E9A7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01F9A28-17D6-4584-BA00-C5FBE91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F7B0D09-DC8B-408B-B09E-B8DC458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1792C52-EC23-49C5-94CE-DCA3D24C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EA8C90A-C70B-46FB-B060-CF84C36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4D5D-C2A7-417A-8876-6DE83A4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9499F41-CE42-4DF2-AA05-7A62B032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F3857A6-C859-4ACC-B276-E59C2D8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D3DD0ED-5C36-434F-BA02-A521D3A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11134C1-AC13-46FA-A956-5E038F3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FC89A7E-B38B-49C7-9FC5-7FBAB4EF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6BEF22B-64B5-4658-BC77-ECC1A493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2CE5873-A08A-4C71-ABD8-F6EA3812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7FDCD51-22DD-4566-8C8D-8DC37BEF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43EF86E-ED9B-4EF3-9744-8F98D2B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89930B1-4D1B-44AB-8DAB-54A39AC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D504-DEB5-4AA5-B045-F987151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D37E82D-C3E3-4D73-9927-B1AF663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06C916C-0BC4-4B87-A217-902561A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E0D4E9F-C085-4F2D-8B21-9E09E46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C7C9AF5-E6FF-41A6-9DDE-8D5CFCF1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9872267-4A4A-43E7-81A8-0922E7B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E9C0A55-1D30-4C3C-9D8A-902E85D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5F16649-F17C-404A-8EDB-6CE5B85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77A53B9-E9F6-4CB3-A3F1-236A948D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7ED7D89-30E5-459D-9B73-91F5028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E00FBCF-1C60-49A9-BD4D-A004DBA5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1F785-310A-4779-B9AF-3A0276B1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FAF6D8F-1966-4EFD-982F-0A7853B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C45CD15-A4A0-4952-8073-C19F4DCB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AA2A180-4E77-4CDF-A5B3-309DEF77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9FCCBDA-55B5-477C-B804-D38EC210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20C97EF-D124-46CE-8B83-497A04E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5DE9A44-76E4-4F75-8666-705E2CA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FA8188B-2051-4237-92AF-DFD9F95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614D22B-EB20-4891-B818-14754C2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D022385-7B55-40A5-9AF7-431387F2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C2A22F2-C9A2-4565-88A3-23D88E47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4EDC2-2526-415F-9276-B43D634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D8C6C55-767F-4610-A35A-B6F7FC18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DD58F12-C4CC-4378-B885-BC439D01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8F2E389-1181-4F55-AA39-13426ECD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4F8C179-81D6-485C-B486-09A72580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0B5D33B-8B66-4F00-9A85-7B016CB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B7EFE96-8100-4DF2-BAA8-17344C0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A8A2F53-33F5-4EB6-B205-EA659DA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3D4F9A7-15B5-4C06-ABA4-4B0D5F3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7DAE4E8-BCA0-454D-A12E-66A5D3B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A3332A7-E1CD-444A-9DF9-B88DF3F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741E0-2A57-48FA-BEA7-48691AC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72404A6-9DCC-418D-8144-C95E2535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E803821-49F3-4BCF-AF62-A44CB568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F4E6A13-30B9-40F0-B70B-55191727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F220614-67EC-453C-9EEB-8670CB8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0AAABBE-BD63-4CD5-9869-05AFA45D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38C36DB-1294-4225-AF0E-76897F8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F82032F-BE61-4733-980F-3DFFE49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03A5A71-4784-4DFB-B22C-B1743EA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87184B2-26EF-4917-91E8-588DBCA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963278B-1999-4C92-9D6F-F998DF5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0F3B3-3CAF-4827-BDDE-2CAC951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35A3CA7-2CC1-4AC0-B80B-6C4588E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10D9DD1-D941-4890-A55D-F562E32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16E1F73-0BE8-497A-9B9E-1EF9FD5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BA3CDCC-6064-4725-B63D-61CB8BC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895466F-33FF-44A6-8D22-E8EB7390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571BEE6-BF37-485C-9BEC-2460D20E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25945DB-7A28-4A11-AE12-F6A6194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EADCCB5-88A0-435F-ACD6-BF74ABF7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A017889-10B0-4695-8A5B-1A156729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2DD7563-B60B-420B-8525-40BD01B0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021D8-90BA-459B-994C-8138A2BB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95BDF5B-2D6B-4D60-81A7-15D53718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EAD81E6-A355-40C0-97CD-CC57F21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3C82422-06EB-4966-94B6-6AC6D2B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FD93B64-CC75-4E8B-8B2B-78436ED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74C2EA2-2445-4FC1-A4D3-C112BF9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F49DFA1-9BA3-4E36-AAE7-93930DA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FC9F5AC-E659-45DE-9DEB-524DB28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76C28DE-F291-4893-8F1D-F06A3D80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9BE98D8-11E0-412B-A036-8F72331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EAD1D64-D55B-4105-B48D-95432160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78C8E-2932-4060-A819-8A3106A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F80225B-166D-4770-868C-DD9BE4D1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7FA204F-8824-49A6-8387-C5F27B6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40D47B5-3345-4190-AEF9-4ADDA11F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D081748-8780-490A-8CAC-CE506FB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A031E48-C9FB-44FF-BD33-B8FBDB1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900AF43-0513-4356-9FAF-9CFD560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8D53825-02E2-441D-9616-A740136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CE6821B-447E-4C03-B69E-11E2998C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46A3A63-BFE8-4477-8690-FA1C1757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1B45F7C-BDD3-44B6-B308-E8121CFD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A529F-F9A2-4ECE-B956-73658593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27E2F2D-72EC-4FC0-BD94-964E96A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5792DAD-95DA-43AC-8127-1494264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72DC430-8DE6-4D97-A710-8549190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F214AF0-8347-45DD-BEDF-C41CA82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C255237-99D1-4EA5-B37B-151CF3A5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725D8FC-3B68-418A-BC9F-F740E92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834D0D1-95CD-4268-934C-913CD0B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F62172A-516F-4CDC-A9B9-A6B40DC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DC57080-CAB0-4CC1-A715-18DDAFD6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7EC4AA6-AE83-4615-8F0D-C921A782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D7-EF96-4372-A03F-58D3ED7C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DFD2D-A6E8-435F-9971-392AEB0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7F7AD3A-15BE-45E9-B79A-809C64E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FA8DECC-6595-4ACF-BD51-AC2C5C4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E91C36B-A0E3-469B-AFBB-36BB69E2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75DE044-B0D1-4155-A3B2-1C4FAE4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366BF97-850D-4D33-BB04-DC2CE71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A182C0E-897E-4839-A9C5-0E584B59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83FD3B1-0415-4AF7-AF8F-3AB4F087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8CB02DD-42E0-46C5-9736-0A0B8F3E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D58C125-8405-4D7C-B424-CD62324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EE32813-CD83-4746-A495-808FDA33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0A118-426B-42D5-8F15-DF38E9D2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B50D357-5FCE-4C52-B981-3ECF14D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0C90E88-5EA5-42E7-AB97-684A0001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9064BF5-6FDD-4CA2-A650-7D1FB019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00F4B43-A398-4A24-9EA7-F0421A89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6C9EFAD-1E07-4A65-A2AB-7345514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B8B6F8A-6F92-4742-96E9-3752B41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D772E56-3D0B-4498-9095-79D84ACF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05E31D9-AF6A-46CA-9105-CB3760AE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FB2EAC9-6748-4596-8F21-538EFEA8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38BBC34-3F0E-469D-B4F8-BC12345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7663-10DF-41EF-9A4F-0AA5100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1FEE83F-6D2D-411F-924B-F17D2B7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0BCE0F6-EB72-4D18-9B2E-B1A606F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E2D3F7F-97B5-4E1F-8117-28BED828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62EF63C-CDA7-436C-80DD-68D911D8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C059E61-0D54-4781-AEB4-EB90E880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7208DC0-0849-438D-A174-74B9F3E5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39CD832-2369-4048-9192-61FA2357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45BD295-3C19-40E2-84D0-41CE8DC6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ECA0D17-5D6A-4252-8E6F-6557356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C9EA94B-A4B5-4CAE-801F-07B951B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1AB76-2B18-4E69-A745-5E13F76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CC6920A-5F4F-446E-BF73-4CFF395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9C39EA6-3951-46A5-B05C-FE5898B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87BD5C1-925A-4042-860A-26DD228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3BEFD7C-B32C-43AD-B837-B910F41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1BB4EE9-D9E3-478A-BCAC-66D833BE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255285C-6052-44C2-B3F0-E1F66D8E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363BD08-A29D-4701-92E6-8952D2B4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771FA5C-FE4D-4370-9FBB-8AF1946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2B4BEF3-B209-48F1-8C6E-0E37E3C0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744E640-92DD-4EF6-A2EF-A5DA975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EE1D-B180-4418-B8DA-C330EC3A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F34AB99-E5FB-4A37-8FF8-D4B753D7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74FE58C-E97A-4590-BE6D-850247B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EEE014C-D50D-4045-8E39-CAD5C5E3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8B185D2-5228-4D6D-B90C-41F7DF6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5614DB4-66C0-43DD-A939-E18E92E0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B90E116-D02F-487E-B6F6-A9FF5044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BE878BC-19D8-45B5-93EC-3E2737C3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C398ADD-8FA4-40F2-8372-6505BC22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F644A47-22ED-47C7-B534-E5F79F75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F4088F5-9AA7-4146-99FC-A92715DA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7AD6-AD72-404B-87D0-86ECF6E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22C24BA-37AA-429A-BE30-2EAB092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23DD9F8-0458-42B1-9353-C11603A6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A2EC778-5E04-4578-BF5C-1EC5405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A0AADA3-1B64-405B-9BAD-A0D845D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C5AFA04-2F6E-4E5A-9477-AFEE6BD4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A530956-D57E-49A6-A600-1C73CEF0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62B67AB-A705-4DA5-992D-FCCA16F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E179B6B-7B58-4090-949A-BF54193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79BBDE8-3752-4BA0-A1F8-E16CEDD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404AE73-3B63-485B-9A46-8A9E2D17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8D39-DD0E-4E76-B600-FC15045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2ACC784-C0BC-43B9-97FD-D441992B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8328C41-4A81-478D-975E-B4449D4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CB48AB7-DFC4-49F5-BB55-7A17F06E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3EFBEDD-80AD-4FD1-956B-6C456829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D243ADE-6D12-4DCB-811B-EA6ECAB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48DE7B2-A98F-4CE2-B5E7-94007C23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EA3331D-617D-4BEF-941A-2AAF6351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533E07D-767F-4815-9784-E7D1D41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4EF0F9F-4296-4AA5-B05A-74F546F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34CAFEA-00B1-44A4-A6A3-D907861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D2D8-FAE7-48BB-89F9-BD355F1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FE5E16A-30BE-4021-B07B-DB674809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A9C9FFA-187E-452D-8F60-C2123D3F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5857587-C7D9-457E-9807-EECB01AD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6DE4B13-370D-418A-81A1-637F702E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5E937C0-299B-4415-A66B-3F98728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E2F506A-2796-4965-9CDB-B9082AF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BAD0106-5B7D-479F-B4B5-0682168C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5434C8E-6BCB-4563-BF62-FC33873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E277C05-4FF6-4D4D-892E-4E342BB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904CD25-1F3A-4B55-B089-542ADC3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908EF-D2D3-4726-9C52-7CAC439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238B5D8-FD38-4548-909D-59C7AD79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6EE77E5-3900-4375-AC74-267F2CE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956410C-4712-4F35-8AE2-128AB3A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5F261D7-DC49-4B3B-BCFB-A2DCF06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9F4A79F-3CC1-4968-B1AE-DD2F2DDF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04CE86A-297B-4744-AF53-9DC28240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9A2BB66-C52B-41E7-884D-04ADE02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C05D64E-EB76-4227-BA95-758C3C3C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680245E-C541-4EFA-9D11-373274C5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A5E2D85-6BF4-49CF-9394-910F62F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4942-AD76-456F-BB05-E8F4461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7B61ED3-50D0-447D-A296-CEA45889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0B995B5-ACD8-4138-AAD1-A85A62A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5941386-6438-432C-B70B-F223376B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798E290-DAAD-4967-872D-EE3A514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A7EE7B1-8785-4C4A-8FE9-100CE2FA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F2DF90D-56EE-4B99-8C59-7F544D26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8481EA4-416B-462C-AC61-7A05DCE2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4D1FAB1-53DB-4411-BE28-42141EA3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5F6F3DE-E0E8-4F8F-82D1-02A99B43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9F9DE76-08BD-43FC-A8F2-969A5AD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3C6-186D-405F-9564-5FEF62EE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0AB58-22A1-4324-A1C9-3F52F1E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F48AB95-CF0E-4E7C-A640-9DEC09C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FA154B8-6A53-408A-B4CC-8D4A50C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A2CC4A8-7063-4E56-BF2F-9946555E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B6E6D5C-7F5D-4C90-8621-F17C812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2A48363-FAFA-4C9F-9C3E-C74D92A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3A73676-05D0-4AD2-A5A6-2E6C2EE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270620A-2594-4845-A2CF-1FE05AD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629F09D-3521-4B38-B284-81CCBAE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552AD07-53EC-47F8-B969-181CB25B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0F385-1ADA-41F1-97A6-37B5EA1E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40A24-F4F8-4010-AC1A-425ECEA3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21FC4-57B2-48C2-928B-F2332FC2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E4CFD-7EAF-4F0F-BBDE-B711B7D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78EEE-3FE1-4D09-91E7-2B50A92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8D76B-70AE-4E12-8D37-2C8F8E7C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15E48-BE23-441E-863F-984907CC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E3C51-0FDB-4E80-88F7-7DA1620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7533E-C695-4137-8ADE-7F5CF1CD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77D-9745-4B59-B2AB-4E235741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BA734-E8AC-422A-ACA5-A271D7C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EDA90-4880-4F21-BAFE-EBE6FCE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DC577-D1DB-43DD-8DDC-EFD1F31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7F35B-3BA9-4779-A234-F1D363FB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0CAA6-1605-4E26-A7AF-28EF703B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F64A5-0A03-4842-9F3E-387DAC3D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A2B88-563B-4581-9A7F-6ACE666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76376-34F6-4413-BE18-42C32CB3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C9D69-E5FB-4F7D-A322-E48172C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AC44B-B963-4B93-8A17-44E7789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EFC2-EEE1-4148-949F-95D4369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4AA83-DE04-46BC-AC71-8B7C3E5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A6BE4-A4EF-40E8-AB69-32A5600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4CEAB-8201-429C-AB2A-3DDA758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33DEA-CB97-4DD1-A18A-554BEA4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EAB1A-E76F-4431-9253-E6B4818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CFD81-38B0-4AE5-BFE6-13E8027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A5659-99E4-4E8F-B31C-28193FE2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23922-B4DB-45FB-B17E-09722A2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6CA24-615C-4E95-915F-463789E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E8D18-4EA6-46C6-9827-DD47B39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231-F58F-419C-B27C-D7AEED0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EDED8-1D72-4F21-A189-287E784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9287E-DFA4-4B56-BE09-DD6E19CC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0A7DC-8DE3-4DB6-ABA1-B361C3B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08B4D-678C-4209-A8EF-662E9CD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85E71-E5D3-4442-9526-51D7DA7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817FF-235B-485A-AE3A-9B06415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F91A3-557D-48EA-9726-5F312AD7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7D788-87F4-4ED0-A8D4-A0384936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81317-1274-408C-A42A-6872E7D6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3A04C-91D4-40D6-8FFE-D23C5520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241-057A-4BEB-A20C-DEEF581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3941B-CA24-443A-BE45-3ED89FB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959EF-88C1-498E-9C6E-0A339D7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E060C-A8B1-40E8-AC8D-9C663E2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5B8DE-2615-49BB-BD2E-01BD4A33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60B5D-5F71-4E6A-8BB7-D4DF5E5E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78C27-E3D4-4AEC-B6D6-ED5CB6C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D2D4D-6434-4524-B37C-400C9FB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F2338-83D7-432B-A92B-DCE6478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85B37-6FDC-472A-92CB-968F397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91B10-0F17-4D83-B45E-86927605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A44-988D-4A57-B0FE-BBD210E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42ACB-B2E9-4764-93BA-2193BB88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26EB0-989D-4599-9CD2-3A876781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8F67B-9279-4E3E-846D-2C55502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07132-A7F7-42A5-B559-6F710043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20323-3143-4F8A-8264-B5F7E682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A1FD7-6C28-4289-AA6E-C65FCF87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B618F-D9E1-4199-B5E0-1C54B57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C7F74-A005-4BC9-AA84-A1442F6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470F4-E3D5-4D4B-B449-47667B7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A0E7E-E573-4A78-94C2-331F64A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3E8E-D3F7-4D90-BC02-26B6448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E8D68-A2C7-4761-91AF-4472D95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834BF-84C7-4A07-AF6E-20715777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088C4-02EE-4AF7-B74E-A3AA9692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8DEFE-7709-4304-963C-5F369799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4B43A-1C31-4D0B-BFDF-B6515E04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14C8D-A67D-45F8-9EA5-10110ABA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2C589-6B97-4332-B6ED-C98D2C4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16887-7B8C-479C-9B21-75DFA38F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1BD8F-2737-4DCE-8E43-97EBFABC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75524-0663-4963-B13C-D9E62E9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9DC-CAF3-4B4A-A92B-32F09139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C386-8EA4-4D58-A7D5-032CAD3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5B64F-965B-47F5-B0DE-85840B7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B654D-DF8F-49CE-A47A-F6C20AF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04393-C6BC-4A7C-A61F-AF15ADA3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43035-F6E5-4F91-8891-2F21C8C7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6CE23-BF81-422A-BD0E-60987344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BE5F7-55D5-4E77-9AA0-9B5ED05B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85A91-56D9-417B-85E3-91A37178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E521B-B8BC-4929-9586-81640DC2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BF223-8883-4266-A566-90AF4DE2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BA590-A9CC-45C5-8089-7117A26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1BF5-2392-46A3-A857-B82E1F0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F8AFB-F1CA-4E00-98A9-D24CD45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20584-4C47-4E14-9F20-3911863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31F63-8603-43FC-A85F-782F28C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E448C-5B05-41CE-9301-4E3EBF4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74683-D8BD-4E3E-B85B-B8661D5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505D1-FE1B-4887-82B0-CC5468D1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EB500-6B20-4B8D-8CAE-2127A496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430AD-66E4-44BF-B30E-60D0032D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72736-1066-46B9-A8D0-C1791FD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87EC6-F56F-46E1-BA5A-FA8CEBC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DBD-D485-430A-81FD-83954F7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42955-D63E-49D0-90BE-0722344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5F068-FA20-49EC-8F13-46894546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5F49A9-B1E0-4899-9819-38D3195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353D5-B677-4A5C-B163-4162543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40EDF-CB29-41C0-949F-EFC3FC5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75C94-EAC0-4E2E-8967-FC26EF6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4A573-C168-4F5F-B100-34D4381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6C6FE-27CF-49D6-8A92-7C7734F6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BCA23-5564-42EC-AE64-D4A111EF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0597E-2AEC-4AC0-B7CC-63A40D3F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A85-70DD-4442-9965-E2A63A64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21335-E34E-41C9-B5DA-9BB1616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6AC30-C39C-468C-A3EE-93F0D75B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CD684-7AE5-477C-BBC7-F692211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209E8-B88B-49AC-AD1A-0886555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BDFDB-AF1B-400E-A410-49D3B1F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F25EC-8A84-4181-A15E-593FDD9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6D066-C5D7-46A6-A65F-415D15D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2ED79-0D29-4D15-AD4F-078DDF4B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F08B0-E11F-4B12-99D6-5117396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1E373-99C7-4E85-A953-4B469162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EE4-850A-4898-ACBF-BE22C46B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29D89-56DF-42BC-8B36-20725ED9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F3E31-4878-4D9C-BB32-3C5F80F5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FD44E-6C21-4758-941C-6276ED8F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69ECE-B4BA-4302-99C2-F01DCFA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4E427-7265-4112-8A09-816CB22E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2DAB2-CF75-41A6-9B11-DDE3D10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D8E4C-6A9A-4310-95BC-0CF76E4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D76D7-C889-497A-8A88-B81C77D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D179A-238A-4A34-AC94-818AE04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A38B6-0961-4E33-BCD7-84F2064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80C5-97FC-4A0C-B92E-F65F512C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86151-6D1C-48FB-AC91-2808915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2E969-F89E-4E83-961A-887A274D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EEEB06-E30A-41C9-B9C1-EBEF03FB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7CD1C-4261-47DD-AE7C-CD6D6632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A969F-FC07-4888-89B5-604EE95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46CE0E-E7BA-46E0-B2EB-047E656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50D23-2B89-4C30-8F4D-49362F73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4FCD5D-B19F-4186-875F-B9A360D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39DE3-E566-4D3F-B875-F9C2420E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7B00A-8530-45C7-9736-3A32C35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DB0A-7E6B-4166-96FA-77C0972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E54AB-FAC7-457C-98FD-9F59019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014D4C-C2AA-4F07-8E7E-59A0054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916D54-6A59-433D-BB71-D2B57B6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1E877-F5B9-4256-9FF7-2B481243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2706F-37CC-48DB-8DE9-23D70AFC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9F551E-7365-4A43-848F-9BF1ACDD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5CA88A-11E3-4877-92EA-3561962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A4AF2-2B8E-4CF9-B9D7-240770A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721E28-F45F-43BD-B49F-6FCF5F4D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97FFC-E1FE-49CA-9B91-D9824A42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F813-4471-4249-99CD-A02E8383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AC5E3D-C302-4358-8A86-FC2656F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AC7BD-322F-4690-A9D3-3F8358F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DD7CA-3582-4E99-9B54-E3C590E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EB4E42-73B8-42F3-901F-3FA103E1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3EEC6-FE67-4AAC-B406-83EF418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0D5382-4B87-44FA-B46C-806334D1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E6224-86AE-4DAF-8BFF-2CA10D76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C2455-7DA7-4046-9314-31694BDD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200752-1D31-48A5-BDBB-0045CE43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BC0578-C136-420E-B8DC-0EDACD1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9C95-CA37-4493-8FDC-B768541B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9B114-C16A-422B-BE13-F9189FC7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94985-81B5-48CC-B93E-C8B5F11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DE18A-80E1-4712-9BE8-FECF5C54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18B9C9-8C9B-4929-AC90-82E1EF7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814693-9724-4B22-AD2A-6A7029E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38EBE-0F6F-45F8-8F18-A5BC699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AC0778-F418-4273-B76C-3229C607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7339A8-EB29-4B59-AF52-4A3D5BB9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7DB9F-19A6-4BFA-B0FE-EFD8C5A8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07015C-C1F2-471A-9DF3-BACF3783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3B86-34AB-4429-AE19-1DBD2FB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F2BD0F-4A4B-45DC-AE65-D810817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09FBAF-C3A9-41E4-B537-BD6979AF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EC822C-FED7-4B24-A1B5-9F1474C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A0052F-E8BF-479C-9A0F-278A1BD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DEA66B-BEFA-4BA9-9456-20F1B535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369718-D6B9-4A6A-ABA0-401A3C4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5D6B59-4A9E-49D7-A8BF-3CA1509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7EE03A-BB24-491D-969C-C25BE05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FCE91B-2FA5-4B3B-87F1-E4A3D82F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F446C2-929A-4A62-BEF3-BA6FA3B4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0CD-1B54-4052-9611-F545449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2434-2E0E-4C73-AB12-628B524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6939AB-5634-4BB8-8032-F928A936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3E6AD4-A187-453F-9C24-C77C5042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708AAA-71BB-4B16-82CB-40E8EDE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8B36CF-5D39-46A7-8D00-02434E7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B7C79E-05A1-4ECE-A553-4A20CC38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C12CD3-C079-4BCD-897C-8A0B7B9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2815AB-DF5E-4ED6-A54F-F0EDF69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69127A-E57B-484D-AEF5-B583A3A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3E26C9-6602-49DD-99E2-7AB3D88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71986-DC95-443F-9C38-4BA49B6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DB6D-698E-4634-8EC3-E722FDD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84D956-E95C-4A78-84F3-798CDF0D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AEFFF4-536A-406D-9E49-5DD4F3BA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AE93CC-F70B-4D18-A4B4-E2F0E55B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56E03F-648C-4655-94E1-B6E56ACD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CA7FA6-A7DD-450E-9D4D-8AFDCC25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3F4A0F-557B-4A7E-A07B-A2E54CD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6DBAF2-2BEF-4B1D-92FF-F9B64C1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8B6E55-1D1B-4209-823F-7B2A4D3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A4A4BA-75C5-4696-93D7-4A99A1F1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80E8CB-BCF7-4B0E-BC1F-44532AC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E149-4004-4B83-A704-9CC535E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120C83-4BCF-40EB-8013-7B6D991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106A9F-C769-43C3-9A64-CA0097C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B44453-639D-4B88-AEFE-29255AD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37C64C-7980-4A84-BCE0-A9E3D331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207EA4-2C4C-4A2F-AE17-AD037EFD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937C01-DF53-4991-A64C-5A930177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0460EA-2E1A-4D1F-BF56-030CD4A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3DA95B-8433-4888-8812-861CF680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F5E4D0-54B8-41DB-836C-D151D7C7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30684C-DB7F-4329-8C16-F775C90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65B8-8131-47E2-A1BA-8666F42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833715-6D93-4AC5-BB27-8A68690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6F2AF5-9304-4BCC-813C-858E0B3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30D8B0-049C-4034-96E8-37AF559F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D78984-9B8C-4F5F-BEDE-773AD0F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C0600F-7EEF-48E5-A85D-C0C9D67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DDB203-2540-4B36-A3B5-C71F2831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70A949-D4AC-4C91-BBFE-2452520B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6B52C-6815-4C57-916A-9FCDA893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B522E0-ED1A-455B-A921-261EDBF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A0FAC6-3E08-4602-9195-4FAAD6A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7C22-3E45-42FF-B744-FE496CAF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35017F-12F2-4264-A0CE-9A7EABC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C24540-0177-4760-8D16-EDAD48C3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C5CC0C-711C-4050-B604-96888E61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0EBC73-781B-4C73-A8D1-7DAA6EE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A9ED26-A51D-4FFB-A6CE-362C126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A4713D-6425-4867-806C-AFCF704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947D5A-B435-43E1-B59A-FE938E8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D8141C-D64F-429A-820C-27325961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1EBA65-AEBE-401A-8C9A-A3F25422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95AE1D-D58F-47C8-B98E-69B4CA27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91BD-BF3E-4840-9987-57456978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FD56E7-B4E3-492F-A9C5-E48DB84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C52210-3438-4CDD-AA7F-111C34E1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C09828-AC0B-4BDA-BD11-CA4EAF1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25B971-BED4-4C71-8BF8-F04B8C8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C74AE8-7751-47B8-A6D2-3F75405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9A13DE-D516-4C59-9A80-8153008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628F47-88BE-4AFE-ACE8-19DFFD8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3EEB7E-B0B0-4791-9FB0-B6ABD4DF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269D64-94F5-4569-A9B9-0056C39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E69E53-59F7-4A75-8E9D-350F86D7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7AD6-9B08-4297-B3E8-35383303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01E333-93AB-413B-92DD-1C6C71DC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4EF7AA-3ABF-46DA-A41A-521CDE7F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418548-A6DB-4F3C-B5CF-BFDAC9C6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3AE0F5-BDDA-44D2-8E1B-C6775824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553F41-9237-4A57-AFA3-53C642C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9FC52A-047D-4AD9-9C13-7816A53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0F1EF4-7DD3-4A9A-9D4E-50BA9EF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997AE8-CC9F-42A3-A01E-8C1C823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DDE2E4-2AD2-4227-BC4D-B6BC3E0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11A45D-689A-45A0-AB2F-93786EA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A907-4610-4BF4-B98B-202ACD5E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A4DCFC-59AE-4713-94F5-0C1C29B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9735FB-03F2-40CA-9A8D-38F2406F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66FB36-BD5C-4059-8D8A-F2CBA93B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0331A3-72C0-4883-8FBE-6B49A27A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C7686B-F227-4C5B-8107-07B64FC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852FA9-0A0B-4A9A-B6EF-ADD79D8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EB5F62-69FB-4D13-9CD0-466182D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BE1630-BCB9-499D-A0DE-645C74C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57AB47-F3EA-4D4A-80B5-C11747D3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70D374-1034-4AD4-AA57-5C097D0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B29F-9427-4D55-AF84-4329D4CC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49AAB4-D299-43A9-AD4F-67FE4FA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A09CF5-429D-410B-8E6C-CA20EC0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E502A2-C99A-4516-BE15-BF06F5B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1C0CE1-75EE-42DD-86C7-08E69780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45FFE9-768B-4376-9FCA-4422BDA5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772B04-0E63-4B02-B8D4-CD97FF10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A70E93-5D3D-486C-B9EA-9891EF7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FC0927-0413-4C2C-A755-C9C2CF1F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F2366E-F2F1-4AFC-BF93-A67AC392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F39F5B-E9BC-4339-B1DD-5365A5A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45FF-52EE-46A0-B8EA-256017C0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D972D4-A3B1-49C2-B48A-AF67DFD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3AAE4A-B92E-4B18-B59B-E0C0354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332443-A476-4EF0-8236-3529117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A4FCDC-90DE-49CF-800C-EFCB59A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270465-9680-4BBA-BD94-AAAB621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F4AF90-B33C-4E4B-A139-DB7F1D0B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DFF936-6F3A-4CD4-B3E9-DAC51550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E04EDB-43BE-4E55-A89F-80E46DE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3C10D0-1E44-4D11-A1F1-106E666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5FC742-E890-41EB-8588-0A4EE8D8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507-087C-49B2-A4F0-CD136FD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20A8-EA28-405A-A3DC-F9C1BEA0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51CC65-82D5-469E-8AC4-014AF39F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56FC3E-4F90-4E3A-B898-F2E94548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75BBE6-0316-4C32-B33C-8C4F0D6B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927475-2E0B-41BC-9393-344198E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8267FA-8233-4901-95F6-F13B28E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1B12F0-A4CD-4E09-896B-A2D56D90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ADE5CB-9E5F-4051-AED2-28E6E31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2AA41C-F9F5-41A0-AD30-886A9952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ADE003-3C63-4777-B81D-248580F3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196A55-9DC0-4A71-9206-3044897F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1E81-0EEF-4D06-A160-ED93C07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7EBA1D-5FAF-450F-86B6-56C6BC19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23BD77-ABFE-488A-9088-0D63E004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3F60D6-3C40-43E2-B492-4707473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AE9BD5-A198-4E09-94CE-8A44F5F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09432F-4A2A-419B-971B-3916BA8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6CFE25-2C7B-4D39-94AC-18A3A9F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B2109D-A587-4A46-AB17-CBEAC36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7A83A1-55A8-4DB2-BE52-F84AEF7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4C6073-920D-4B42-804A-65C9861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3BB588-4B17-4573-98E0-CBF685D2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7D72-46C2-427F-9CD1-FC61ADA5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91180D-D113-4B48-8D82-BAC65015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BBB7BC-39A5-4D97-A1CC-D426CBB4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9F6A51-9AC6-407A-89D8-77F5D197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D046B4-A4A1-4D1B-A415-8A27C4D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F29BB0-75B9-4983-AF71-9C82E25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F60551-80F4-4DAC-B582-A7993857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4246C4-0398-4651-ACD3-C4D0BF0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F328C8-3B84-45A1-8F7E-70348DB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C4A61A-7216-479A-9BB9-F382D38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712313-36AE-4F2B-ABED-D723745E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6C31-1ABB-4EB4-BAC2-65498941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BF83F0-A3C4-4C61-9E54-0BCEBCD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00E87F-5A39-4F39-8D29-68E7F79C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999218-CA73-48F1-9C3A-31EE6E62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9841E3-6F80-42D6-A793-EAA2187E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1B3C4A-005F-400A-9DD0-C7CBD04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3E0EB8-82EF-4D6D-A632-9F6C8BC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D08D98-350D-4A4C-90F6-E32C5775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6B7C32-96D9-495A-8092-6CA20773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47425D-1FBF-4739-9B44-7746DE3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0AF6D6-BD4C-4981-B293-F516110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7D76-FC11-45DF-B1BE-1547880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5DBB46-FE6F-4480-8E8A-EF05F29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22DAAE-FB5A-45D8-A297-B2F9B9A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86EDEC-B827-458C-BEBB-7EC3EC7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AB8472-436E-44B0-AEA2-8BD141A7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EE9D5E-3207-4D19-A297-F5300C1E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5D8901-4F3B-4E28-8621-317002F6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03B254-CF83-43A6-8763-6538C94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C5F452-0F66-4CC4-A46D-B5C8BE4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F651F0-C4B4-4A7E-89FF-1EB299E1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DFBD6D-8339-42F8-AC46-094CACB2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3C9B-D71F-4597-9745-4D06019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91D846-FB9E-4AAC-B107-AFE44F88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11B9BA-2573-490B-8405-D799397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D30DCB-417E-4CE4-8CA8-7C48C6C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BD4B52-149D-4D63-93AD-4CDF9BD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C80234-0D63-4C79-A6E0-88091F3A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C773DF-2A05-46C4-BF87-0DEBFFEA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323429-93CB-4424-AD65-1613C135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67D000-C6B1-4B08-A98B-FC837BC0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6CD7F0-664D-4E2F-9E63-484D979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53E798-6570-4440-9294-F4DEC403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897D-5C8D-4D8F-A7CB-44DAACF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28EB72-09D2-4298-B220-516356C6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EFE7C4-63AB-4FC8-94F8-308B6E8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280243-1BD7-450A-A0D4-BF65CA9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CDACEC-0255-47B7-97DD-08FC3449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4416CF-C894-4991-ADCD-70CCDF2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FAFC43-B770-4A3D-A218-B7828FF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3DED2B-CA10-4E87-9C4F-B8A39E8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8481F0-7F32-4FC1-AB20-05708942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4997C6D-BB0C-48C6-AFD1-41D2E654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28BB78-006C-4562-87B9-664AC5A4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B92E-6AE7-4A57-ABD8-AA50E7CB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BDE287-5608-484C-BAC7-0EE051B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BBA257-1F21-43BE-A389-0D802AB5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69BD29-EF5A-497A-91F0-D0515D58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6101A3-D52A-4EF7-9F20-1FEEE91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4B6638-7302-47A5-8BE1-1CFB7EC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0350FB-6EF2-4B39-B0F6-D110666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B448F0-BB62-4C88-A777-1FF8361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690A83-8CFC-49AA-B9AB-93C64DD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5D75FA-02A7-4B17-A9B1-71C1F25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94EE94-B3C9-4993-AF01-6C9B6AB9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3AD4-6403-4188-8C8E-77D02902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7D4614-8220-4AB8-A691-1747750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183EA5-F550-4910-81EF-07DA45B0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95EDDF-C837-464E-B179-584E7CA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CCCFFC-4D0C-42FD-B994-B303F1B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8CCBEA-39D1-4184-82E8-4E1A9C7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917FFF-336A-4543-AC31-FB9DD16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AC4FE8-5A0A-404B-BB65-EA9AF0B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EF18CE-E41B-4C55-934B-4B98D17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253466-7E59-4669-927B-09A5387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495DA0-2B9E-4701-AD1C-49C86BB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5A26-1AA8-4D5A-846C-E5A9C7ED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C999A3-89B8-4AD1-B069-B03198D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662924-9DE8-4068-90AD-4879F98C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48A988-449E-4DCE-AECD-8DBB6E78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DC7103-D64A-4092-A1DA-AF858B2A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3E764B-65B3-49D4-841E-27D0B36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7270CC-E1AD-49FA-9BA3-3179882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7621FB-EAFE-4B5B-B7C2-673D19C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0F656A-BEFC-4A7B-96C9-0836FBDC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F60057-F255-4D36-A4C4-F34E96CB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C6C47C-AA25-4290-858E-BB1D958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8C2-909C-4DEB-A344-D3233E5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7224-9909-4975-A3DB-F31C6E3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920ACF-8146-4EBB-B16F-70B56F9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C99098-4A47-4E49-9A8F-B85AAB8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2148FA-581D-48F0-9D8B-6E277D62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E12828-571A-4386-9171-FE80DFA7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D1217D-EA78-43DC-83FD-E3131D0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5308F0-24CB-4A62-99AA-057B1AFE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35BCD1-75D8-48AF-89A1-8529869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0872A9-FC63-46D3-BE32-FF9CD46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AC6CFE-07D8-4D7D-A56E-079DC0B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648B6F-95FE-4783-A053-E7206CA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3D6F-7EFA-4843-9355-012BF90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14F089-1D5C-4545-86A9-2674F4F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2083BB-2A87-49F7-BC9C-71D1A29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555718-1F2D-4BEA-9928-3D3122A2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6C782D-E9F0-4CEA-9413-54AF0BE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AA9CAC-202A-4418-B6B9-9430FD2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5AB8D4-77BF-4A95-A77D-26C3975D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1ADE92-AF03-4A91-BF04-A043FB78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6A3013-DED4-4D37-BB45-041EA945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A477E7-8EF4-464C-AFE6-71A57747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48E618-AE81-4369-BD34-0CA9E68E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BE52-9D8D-4754-B72B-295CBF1B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223D30-E230-4D25-ACDF-3165806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B08BB9-A984-47A4-9E28-E6195D0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85DE58-1D2B-481B-870D-A6828DC3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EE0CB4-2A20-4A9A-ABEA-5F22772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285701-34A0-4BC8-A169-BC91189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F39291-63AF-4106-B486-4BAD4E2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823EB4-2114-4EEA-852E-587A612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DF9DF4-EA32-4EF2-BAFA-82F5EDDF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056F2A-E2FE-4A8C-BBBC-A6649363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6E3784-6151-493E-9D9F-A0532FBB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69E6-98D1-4480-887D-BAB3A9B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51FA57-7950-454B-9778-13C36D3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A539E8-8E39-47D0-A186-567A594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3D94C7-DBD2-4995-882C-98FE963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66DDA4-76AA-4694-A8C1-F29734C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43B696-96C4-4C84-9F33-887EDCC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8D9F490-1525-4FC9-9BB0-3F1DADC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D061DF-CA03-4455-A051-ABC85B0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0D4C69-736A-4F76-A56A-382B0A5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E6E748-DB33-4F86-A3B3-BCBFA78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5C1F22-E681-4C07-A018-8B379FB3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CD37-7679-412F-99BE-9591356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D9E8C0-1AE3-418E-964E-459DEE54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3B01DF-9A0C-458D-A863-9D83EC53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687618-7A82-4027-86FB-F4B285A0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D63A57-58F1-4E61-9753-193B7A1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CA9AAA-02A7-4856-B937-E91BA5C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F66988-2165-431F-9850-CE3A9CD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1E5DA8-C0C1-4A88-A6C1-C38C4C99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062580-6AED-480E-ADEF-D9D1BD57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21B0EC-2060-4B0F-80EE-4118F609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16F17E-8777-4915-90A8-B57F12C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2BF1-CE0F-4EF2-8557-2099343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884310-DA13-41B9-9D7C-71408E62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3D3BF2-E7FF-427D-963E-EE41FE51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F39199-AD2C-4E24-9A5E-59F60C88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A9947F-C9A3-4446-9EFA-BF27AFBE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3DBE80-AF8C-47AB-BB63-E288A991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08E9B1-9086-4C8A-8E24-F1258958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E0565F-80A2-46AB-9478-00B25371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792032-913E-48D9-95BF-0B189C61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32A5FE-EA60-4681-9A31-9AB54A4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FB003B-3370-4D57-BE95-B73586EA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E0242-A95B-408A-8909-09E35E7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4B19B1-2A61-4333-B333-435ED6E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C399E9-9548-470D-BB2B-0AEFE2C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84A0F2F-BF93-4C95-9163-3DE8AF3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964D46-539D-4871-B52E-92D4873B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EE81DD-5BE5-4C21-98C7-C151B216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572737-6467-41D0-90B2-DCA63E5D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13BFF9-97FB-4680-AFB0-CB2F531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B181EA-E1CF-44D4-870E-803AD7D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E2777E-72D4-4604-B345-BAA6F02D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8BF7E3-FD37-4A2B-97D2-C43BD3E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4D77-1060-4415-A49C-700BB9E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07D165-19C6-4AD9-B9CD-434F877E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305150-A6F0-4D31-B54D-9507A72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DAE3B9-B2D2-41CE-B77F-9D41E04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C351E7-E5AD-46D7-868B-D38E691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6FB8E6-C2C2-4F32-BAF8-A83F2C3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B08C81-43CD-498C-BF35-1901EBE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61E965-FA9E-4FB1-B796-1696310A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EBC38C-747A-4269-9F01-40741FE6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7FDCCB-E96A-46C5-B10C-1344E36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21F801-D50A-4336-A3FD-EC51F51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D3CA-9051-49AB-87FF-43DCF1A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3DC97A-C010-42FF-BF5F-392DEF7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1F29C2-0B87-4DE8-8942-4302A50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1A7584-63F1-4FC5-95C0-C6233C7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06E852-5E07-45B0-BD56-BA6BCCB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53A120-C9C3-47A7-A77E-AD2B40C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0FFE3F-77DE-4B4E-8D72-1B88018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D595E4-36D2-40B0-A856-84F8CC6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A84DDF-37EA-4799-A1CC-F8470DF1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86CE6B-5DCB-4071-84BE-03EE636E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5807BC-13DD-4758-94B2-80B22C16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7D8D-4E5A-43D5-863B-C822561E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1E9C733-70A5-4E95-A2CA-BE9F655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DAA64E-0DD8-4FED-BCA7-A900D16E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2E7680-ACF6-4184-876D-8A30B15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97FE96-86E0-4558-94BA-6D8D69B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7DBDD2-4C87-4A23-9AF0-E87F89A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807660-705D-46EA-94B7-EAE81B61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BE1BC6D-E6B9-4FD5-BFE0-9834C0B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C9599F-EE18-4BCB-BCF1-08CA58D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D7115D-9066-4CB6-87FB-1315FB0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1E1732-0FFA-45C5-925F-8709FF18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8E2-A2F2-4E65-A767-9A34AA82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8DC7-ABE7-431E-ABD9-BF284D93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F55DD5-035F-493D-A434-04AB1C12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478F3D-8147-44B7-A8C3-DA66543D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F330CF-3779-4895-ACCF-9BE2F35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8F00321-1B5F-41C6-9967-AEAB1215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39FFC8-3A13-42DC-8039-8C3D6A2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5C87984-5E3A-42E4-8F5A-7E7E60F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284FAE9-1E27-4CF7-8152-7FB67709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A07CE5-B1F6-4E5F-A881-E6A5ABC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39E2F8-EEC0-42C4-8B7C-DA5E85B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F89BA2-0646-4C62-A8CF-6B4EFF2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8861-ECBA-4049-9B9D-52325CDB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F3610E-C0FD-4BD7-86C8-06CD2B96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356FB9-79F1-4907-B72B-381EFF99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FFB9207-624B-4CFC-AC96-583C6F51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9FC435-7F65-41D8-A4B7-FB79996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DDCD82-5A04-4E85-8D0B-CB0A78B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C09335-5442-4ECB-9F34-1EB2AF1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9AC430F-5A92-4136-8088-4FB3056B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57589E-15A3-4F78-89B8-C945BE3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D07C24-684F-4697-9D1D-D94CCDB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7586E7-113C-415E-B2F4-74BACF1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41482-9BF8-4955-98B5-6CEDC162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E7E506-08E6-4610-9D06-C0D6AC0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A996F82-5C84-412A-B109-D0329DA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99800E-2681-46BF-B816-745952E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78A51E-3285-4F7E-94E6-8C145689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FD9F13-103D-4169-B4C7-8B9DD755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A245F9-4F31-40CF-92BC-9A02FD55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6A9AB1-A85A-4FC3-9D84-564C81F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25FB467-2812-46A7-9D26-7166BFF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32B4EED-9950-4F35-8BDF-612E134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FECB73-9145-4B7F-8A32-6353B9F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2325-10E7-42C9-9B60-E95F1F15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027E1DA-D8E5-4DA0-8670-17B59A6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D87D0A-08C7-4CD2-9333-DF13095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F935FD-4E06-4B86-8CD7-D741F28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852F01F-82A6-4FCC-B9B8-B31E9CA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7FB5550-0EB5-4B99-BA62-F8D3CDC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A71DAA-E959-4124-8747-FE62AC38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4748EB-CA6B-45A1-B6C7-2DEDB842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873040-A5A4-4AEC-B4D1-B9220434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D40431-7D89-4561-A2F6-BFFE41A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CDE9469-ED6A-47B7-B0A2-B7C5E8F9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E5E6-4D41-4D07-BD27-FECBCB5A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B6050A-8B5F-4A68-BE20-6C1D2C9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1DF79B9-1C18-4D44-980C-6A3F64F9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4F19D9-D642-454F-9233-CB2FD29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746610-EBA1-437C-B157-1355E91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9AAC7D-5A58-478B-B779-7CB7F5E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4C3F86-915F-428A-9C63-20DF56A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3E9793-BB32-4819-BD81-D988D31C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277CC8A-1F31-4DA8-996D-247F666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0FAB201-D646-48D0-8E7B-68C79551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998C7A-F7F7-4B36-A586-E5F2D1B1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3A329-FEC2-47EA-9703-AC1C87AC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005903A-5B2A-499F-BA6D-A9B04F9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6C9826-55F5-4748-808E-6342D815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D08B4E-78B9-4898-9800-B51F62EC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0A11A4-3ADA-450B-82E6-AD8317AA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C3397A-6949-4FEE-9547-EFE48A1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B48339-481D-4AD8-9CC7-973229C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74EA99A-AF27-4FFA-AFCC-8D0AD78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0DB671-E10A-40F8-BFB5-D2ED100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FEBF220-DD0C-4B4D-AAA6-D087D3E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1028FE-DD12-4FC9-AD11-74183007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6140-74FA-4C90-BA4B-E8BD678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B8EA22-2DB2-43DC-8576-8D0DAF7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727811-B07D-485E-9C08-DCBF5F1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E66BEE-AA78-4F8C-897F-B06E5BE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E0F3B5-7B6D-41B7-8453-17F565C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C7901C-4338-4CA6-A1A3-23643B4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C1E16E-C0F2-435A-A132-551A8D7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48878B-0CD4-4427-9EB2-89DCC7DB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C7CE67-7A99-476C-95F4-6EB062E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D2F8D5-C6EC-4056-8371-96D858D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B4A3AA-77A9-4833-9AE4-DEA132AC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B506-6A6E-4EAC-A1DA-AAC3E0C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64F5D6-C75C-44B9-AA6F-E77E3DF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4CEC1D1-257B-4088-83AF-1C9942C1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5A37FD2-3FE7-4BBB-ABC1-EEC4B5FA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D3CBDAD-F173-4267-9BD0-72A0314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559FFD-D81C-4A72-9AF0-34D315B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88857A9-3F96-4A8A-B5BB-26E9672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2804EAF-D12C-4CEF-BA00-EB2B283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2D18468-4BC4-46FA-82E1-375B9539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F7C2FD-B38B-4E1C-9167-EE60AC21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7221400-2E79-45FD-A0AF-51D33EA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1EED-7C5F-4CF9-A9C8-7F0DE12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C1F5FD9-3DF6-4A02-AF39-033DE8C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7F3176-ACCF-4E97-B50D-B78506B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531E688-FEE6-46C8-8D5D-A3D1C76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D52715-0BC1-41A3-989E-E6A7777F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E98ED0-1447-4C4A-A834-580F6EF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81CB2E0-2690-4B9E-A426-2DCA1C7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3B2FC5-357E-4412-A744-83C58FC2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C86830-10DF-4D7F-ADCD-6FC3F0D3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C28801C-3AF6-49FF-A7C4-D7387BB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936958-A35B-4F1D-93DC-6AE493B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77DA-71C2-4CEC-A740-1A8E3E8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AD0913B-7831-4319-9E3B-34907D7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DEBE3E-8B6B-47B6-A1E1-E9A820E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AAF5EB-9E9C-41B5-9C6A-1D3CC50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DD3C083-6974-4D5E-ADA5-B2C9B85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6ECCDDD-4801-4391-BB16-575D8ED8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521BB0-48B6-45FE-9E97-B37995D7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3CED99-96D8-414B-A608-BE2C1BA2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72998B-7F7E-491F-95EC-2E06C3BC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9DDC6D7-9391-45F0-9C27-DF46F538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C3ACEF8-4F7B-4288-A114-D845D6AA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E08-DBB4-4B27-BDF0-D95A4F3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E41AA-0F0D-4460-B2CE-AA751DB7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005A3F-F499-4EAE-9F95-8852343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30A3AF3-71A0-47DB-A083-0040EB0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091C8D-3629-48C1-9802-6FE77FF1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0032CD-E1C6-446B-A254-819543F7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F9E9FAA-62CE-401A-9DD5-C0F5E51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54FC588-2E42-4665-A94F-B4ADBEB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AEE52F-D9BE-4D9E-9CCA-63B4620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7ACA523-1E6B-4F6B-8471-D17552BC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6622B0-BF54-45B1-A1E5-48D8F6C5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71E449-F5DC-4736-ACC7-1FC35921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2644-6ABF-42AE-B746-6D768A82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44165A8-8669-4A0F-B6E1-BD668B3F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3FB11AC-2832-41F5-A6E1-98093746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ED30D4C-CE49-4C49-9D0F-00AE708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7099F52-F876-46A8-B08A-F0774412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9BFB2C4-9042-4864-B112-C99E058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9F5E01-89B1-4963-8CF7-765B9BA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A5D342-9FC9-4E7A-8886-7D197098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CE4151-48E1-4847-9427-AC9FAD5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2579C1-E2CE-4E2C-9D57-92DB402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A3B433-100A-4907-A77F-D301497E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079C-F5EC-4044-B32E-08D81886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A21E371-6DFD-4EDE-9145-9CAD015A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C538E2C-2536-45AE-BD2F-8D094CCB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36CAAD-BDEF-43C1-A9AC-CFF6DB50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A43531A-9C83-4644-8DC3-78FEB843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3A77DF7-8916-4256-973B-FE39F654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2877C5-34CA-40C8-86F7-9A6A3D9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2547B5-2A60-4E47-9DB0-7E8675D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C39A671-755F-41A8-8693-A1C9FA3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B1A8031-245E-43F0-AC1F-AB81268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2C8566-2CCB-4E14-830B-93CDA1B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DA06-973A-40D6-B96D-41C4F909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6B3B42E-4C6A-4AB2-A73D-BB54E52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B20D30-D294-4FEB-AF91-EF2D4D6A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E402286-5B67-4B87-BBAE-2A78F909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042387D-5527-4A6F-BC4E-9A25B90B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4549EF1-D543-4F2D-80E2-1ABCBC8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2C8B4C8-F99D-4552-B9C3-77060F3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F794B05-0CD3-455E-B6E3-3ACA648E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E31BC64-D372-4208-B565-F750A62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6444AD5-0B60-4ABA-B4E0-21F515F9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2A16DCF-6EE9-4DF1-A239-BB182C3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B1A7-BF9E-43E1-BD80-78985F1B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32B290E-32A5-4C62-8B24-EBD6FE8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4C6C2B0-4A42-414A-B776-74AC11C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D4DFD65-843D-46F7-96F1-7F9486A3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34BD95C-CA64-45E7-BF7C-9CE8BF1A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9341849-3451-4613-A1FE-303F9A7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FBDFC73-2961-4693-A398-C8092A9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FEE177B-321A-466F-A3D4-98123A2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A2726DC-0EA1-4E57-84C0-48A7E75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4348DB5-9357-4575-9ABA-CC72214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CF9C1E8-3C91-497A-B23D-ADF8ABC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B13E-6AED-4C08-AEB0-B0DEAD1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8D4761D-68BD-4587-9767-3AE5B4FB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8732B86-B7A4-461D-9E31-1AF3F9D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A1B42DA-0310-4689-A7D2-A648698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4EAFA04-75C5-4052-B315-DD133E2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FE2F32C-6376-4454-8326-B0D1B9E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9547ACC-6644-4EBE-B35F-F9548FF9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A554FD4-1F47-4643-A5AA-12CAA9C2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A2A95BF-3401-40B8-9B85-130C60CE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BA73A63-FDED-41B6-859A-A1BD21E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5BB343D-05B5-415F-8FD1-A2FD571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6B95-C7C6-4391-9404-94F503C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363EFBF-A19C-4623-9B8C-2BCADF0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1A43268-5E44-4C21-8402-A26F89FC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C6DAE8-F70B-440C-BD73-63042B1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80BEF68-3B6E-4325-9649-A4A8840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FF32A56-3294-4909-BE99-07671C6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0D6D1F8-40B6-4B5B-A1EC-DB6520C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E2A5D0E-AF9C-44A7-9B0C-32C7F91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692A1A-7FF8-4C08-AD10-4FB0443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F37F05C-F4D5-4E28-9C72-D3D7E68A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F42018C-F376-43D9-8FF5-E54BC22D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26D6-6C7D-429E-975A-65B5B12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61174A8-C7D4-4AD1-B06A-3C56943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7ED011-0E1F-4244-89F6-B2771F14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0C398E-4226-4F73-83D3-14C006B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E1EDCE-EB0F-462C-A2E6-4F6C3AE8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B14191-B57F-4CDF-AA42-24A3DE3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A27A728-5813-4FEE-95F1-EB4DCF5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11B56AB-0A83-4CE9-9C7F-90822D88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A90517F-0F5D-4B85-BF08-6FC16F5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A9FE58D-B914-4B8F-A312-9898298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A58F7D1-3D0C-429D-B189-999F41CB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3133-7BA5-4CD6-9F11-9FEFCAE4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233B6F4-6780-4C72-8BDB-FB7C103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9FAE6D0-0667-41A3-A75F-D0994017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301F082-7CB0-42B1-BE9A-B5B54F3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E1F78C9-3022-41D0-BD72-1125F030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C294D3B-0E5A-41F8-A5DA-CD0738A1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844535-3D6B-4968-A69F-15C1F747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CD796C9-AA48-4904-9D50-E498BF8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9EEDB70-5BE3-401D-8D5A-ABD8915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332233-D85D-4D07-87B6-7CD1288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6D3B8DB-AF35-41C9-A9AD-E315F51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486B-D527-454E-A08F-4BB7F85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1DA61C5-A627-491F-A6CE-28AB77F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6BB84BB-67C4-4B65-9B4E-F70B3286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6150FA4-8924-4228-815E-D2779A9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D0B510-070D-44FD-A1D1-92589F1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1C074F-61D4-4E6A-8CFB-BA50BD38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F9C85FA-2A4E-4876-961F-9820768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F21F088-3EC7-45C9-ADFC-2D291A8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ABA2608-0448-4B53-A02E-29D51DE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64ACF0A-76A7-439C-9B6E-740DC00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457F3EC-F545-4321-91F3-4991340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43D-39A3-4B19-8141-10395D8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5679B-3606-44F6-8549-7B7CEC5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ACA14E8-8516-4930-B156-0EC07FA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8B00388-133F-4819-BE0F-D1FEF4F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E8A524-521D-4084-BA69-3D8BC37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5628234-C138-44B1-B90A-EFD1094A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E2039B-8279-45A4-AAA8-71555294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AB40B6F-D999-4616-9F25-92DB4745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1829F2D-FD55-482F-B328-D857A68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720BDF-5CE2-4128-95D8-BD538ED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4A4648-CE59-4B62-8138-3C8CAD8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0ECF83A-AA89-4E0D-ADAF-7514B1B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1FB48-52C0-40AF-807F-13CECFC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5AA532-D1D2-4E70-A90C-709EB748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2244854-5312-47D5-BA87-039E793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E735C1-4992-4DD0-B556-1AAAD70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638A1BE-C5C9-4661-98AD-877B88B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1269D8-178D-499C-82A7-9B3BBCC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586B166-F3FD-429C-BF79-8DFCC41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A344567-2D15-46A9-B5DA-5C287633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CE965D-A413-48AF-A0A1-9D5356A9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19E7E7A-28ED-4051-AB5C-97C674A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A385009-9AE9-4734-AC3E-72C7243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53A2-3DDB-4FA8-9243-39FCBFA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E83FED-2068-4C77-ADFB-DD83F73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158EE01-D278-49B8-82C2-6013448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A282E94-8593-4CBE-ADD0-AE45F60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42337E5-83FD-4AA1-B5DD-1264A7D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A6136E-EE5C-40FC-B4E9-BF3E1B1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E7F8F3B-A361-4C70-BDCF-0C233DB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5DA1709-5CC8-4923-A577-A2422907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C6A868-7C0B-4271-A31A-E21023FB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7047574-2B85-4951-9035-C06CEF6B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14E344A-A4AC-4E59-9DD4-B87800F2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1A6F-EF18-49D7-8BB0-D50B26A3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348B646-E5C3-4990-BE81-216E27A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1F2CF4A-34A4-455E-925F-9F17C24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E13275C-131D-43EA-84C0-19E38F7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ACE5734-3987-41EB-9E81-BBCDF50F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6F8688D-6FE5-400B-ADD0-319B1C1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DBFF4A-041D-4FF9-AF48-53A691A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E1290E1-2A22-457E-8609-CB5EFD0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7CE5F8D-A6AB-41DB-8A48-945FCAA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827C361-82A0-41D9-8013-BA6CD46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7F4DBB3-B400-423D-977E-EBDEFEB8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6FBD-EA00-4C5F-99FF-79933656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90C156-D181-4034-AB02-3D3A2217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5C04297-72BC-4DAD-A690-C1D3898A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CB816A6-A89D-41EB-AA17-228FC320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5F09617-49AD-4B55-9E73-D30452C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A9CE73F-F3AE-4326-971E-B48E60C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B78134E-1C5B-49E1-97EC-1912D1B1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E890A2F-A083-4549-8C0B-8A7EF14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3C459B4-0FAD-43B2-BACD-25911A3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D7C459C-48CF-4698-8D86-49A484F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AB10BEC-A905-4395-ACA2-3AA4A3D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EA6C-834B-451B-934C-1F72250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11F1B2D-5CE3-4362-99B6-8162FAD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7B63A1F-0488-4C44-960E-9B6C3405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9302EE4-D62A-42E5-BF21-E176F012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84FE3DA-4242-4DBB-BB18-A8CC55E9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0348D5-5802-4B80-AFE7-4A771B62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969848-822F-4B1D-8E4D-4BC78CC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8648E01-15A8-4E7D-BB92-F674BAB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12CDD9A-C141-4803-877F-4EFDA20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52A355-CDD1-4730-883C-4844208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E0788FC-CAA5-40B7-992B-2F6258B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D667-BFEB-4DDB-86A8-43EE1E7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4BD9A4B-7DF8-478E-8466-5C5D0B4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B30B7CE-903F-45F8-8B95-CF35800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902FF77-C829-4ECB-91D3-AA54EADE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CDDF5FC-767E-4E19-B987-95B1E6E3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6D41561-EB45-4645-ABD1-72A6F7EC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A23F566-6D87-4D2D-9235-AFD92D6E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00D69EF-8C56-46EF-8AE4-5A5DBC7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A85A39A-FD97-4893-A02A-89B23FB4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CEB993F-2531-4F89-ABCA-666482F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BBCC9C-A1B8-4D3D-833C-5D50957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0555-08DE-48B6-A3FF-FD73EE1E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410EEC-7E3E-4FF7-902B-6B88763C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B9BFF6-FACC-4A31-87D4-1E1253B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16F81BB-1F18-4784-9B1B-972EE89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E9CD59E-C9D7-485B-AA34-F06CDA9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5DDC39F-E883-460A-81C3-2D358AFF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99A8A2D-C2EB-419A-97E4-A259E348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603FFA4-6E8A-4787-BC69-C39B2AE3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9657253-1F4B-445A-AC3D-EC9138AD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5F440C8-3284-4D4A-8815-3048CA3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455E7E4-C15C-487E-BFED-5CAF256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F33C-5FA0-4DDB-AE2E-52FFA55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C7FD0B-243A-46D3-B95A-FB17737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86ED982-D106-4312-BCFE-1D7EC3D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033CDA0-F288-475A-829F-5511689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0CB6325-BF9D-49B8-839B-D3CC4F5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2C1C98-EB5B-46B7-A3F0-45F88B6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DD925D8-A25F-40B6-996B-04EAE21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19E9C17-D5FD-4488-A44E-D174FB49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AFC5F78-5863-40A1-A2E8-FDC3B269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33D8C91-FF58-40A3-B1B0-E58E9CEA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F11808B-39CA-42AE-BAC0-6902113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0143-1252-49D0-AF7E-E19A26E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860C924-CA65-448C-9571-6487380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8A3C171-4C23-496A-A4BC-610F960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FDEFE23-D1E0-41DD-AB8F-C0FDCBE7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A24610B-E838-4328-B6B0-8D056A1A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4AC8F2C-ADA2-45C0-8548-BAF9CFD7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5F266A7-702B-4E6E-878C-E9BDF5B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4785E1B-EC25-4C94-82D5-6122E28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BBCD995-557A-4AEB-BF77-28C49E9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87CFD01-6A8D-4151-98A3-6869E78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048334F-ED8B-4A5B-A1B4-32EB8E31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A08-CE28-4AD3-A704-023C17D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2670-0AC5-48E2-AD17-7FDDCE65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1E9AF34-FD54-4AED-98E3-27596E89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65EC172-9310-4AB4-A2B4-87EABC8E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7D2DBC-71FB-4065-9A8F-77995794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ED74AA5-470B-4B41-AE20-8B11612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ACB0BCD-152A-44C4-9FBD-490531E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E02CF03-1AC5-483D-9C54-AE5C1DF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40B0E6A-E29B-419C-BBDF-4FE9DBA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44C74A5-CC62-4A15-A867-E907C60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8BE8A2-AB04-4A00-AA70-2E2CD88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6991CAA-43FF-4A70-8309-C084A1F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DC118-44CA-47CB-8266-CA6C2AF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0E18FC1-072E-4C75-A8BA-B647F565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6BCAB97-5733-486D-B4A9-B43EFB92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43CCF78-E9B5-4C4C-B926-8D2AC6B8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B348A66-089B-401F-BB98-57998C53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108F6FF-638D-491D-BC59-11591F4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97492F5-E2DD-4FD0-BBA7-D076E39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DF191BA-A37D-4E31-8BAA-63049BD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C2B5954-F069-482E-9941-29BE913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8399157-38E9-4EE4-A6BF-F330F27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8E83BE0-4ED9-4553-8C47-CC618D0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023F-15E9-4D37-A35E-8EE42BB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CEC39B1-DE20-4A73-890F-1F10AFB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376EE0-AE8D-4FF5-9BDB-C4567EC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CA5BFD9-6B7A-4615-9C6E-B1FA376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AF79A6D-4318-4489-B585-596B42E1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E610F3A-CBD5-4047-B7B8-1192647A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DA2F93F-8E37-43F8-BB91-0897860C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2DCF477-93E5-4CFB-86B5-F8663573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8CEA8E6-05CC-4C10-97DA-C4B4E66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71F4731-3002-4471-80BD-4351B11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5F6B80-F7B1-4E34-A21F-AC5516B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C1EB9-2C4A-4EA9-8B3D-2950524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84A1136-A44A-48A8-B174-24F4C72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824896F-217B-42E7-B6B9-5DB12A4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FD37A4B-5E81-467B-B358-6B8B001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7B1AB8F-7D8C-4ED3-81CF-31DE009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B79EBA8-2257-432C-8EE2-536A742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7504DF7-C416-448C-9EFB-E8E5A19B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AA25394-957B-41B1-860E-065E1C4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07B3450-75CB-454F-977F-4E383AB0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7F09310-9D83-42BE-9A55-9D3F7490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C702EA3-BCC1-4AB7-AD26-C87FFA6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D3609-6995-4C00-8B52-63042CEE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90DE78E-CE84-4CB6-AF90-910B578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223E98-43F6-4D69-8A59-BDC8E69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F2AE3CA-28C4-4C6B-BF2E-927CBB32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525F710-8CCA-4FA8-86F1-E0B74E3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8313AB5-9FF3-4216-A9B2-16605B3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578C57D-964D-420B-9D77-6ECB8C9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903B3E-3E6B-4926-9E51-96793B99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6381D11-E6CA-4920-8395-2C28985A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06C5930-5A79-42AC-864D-769A22B6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209FB1A-937B-4F17-8539-3AA6178D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C511-F07A-4780-B554-036A2922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6828209-4E80-45E0-B494-336F460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C086166-9897-4764-8BF8-71120A4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0E3E64F-678A-45AC-B550-CED406B0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F7A16C4-6590-4EE6-B6EB-F370567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73F5608-8DFD-4BC0-B6EE-2D8EE8D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629AC38-CA91-4B34-AE5A-7304EE3F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E5F5C1A-06AD-4568-AD2D-04F1831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BA20779-8697-4400-9D06-95D6AB4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8F2521B-21F2-4BF6-A149-F79643B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AD5641E-EB8F-4DDF-97DC-D1EB0CD5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CCFA4-48B2-4A3A-9856-D4DA6BC2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DBA7170-4CFC-454F-974E-0F0DD54D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8FEE457-F250-4DA7-A8D6-BC6A8952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B5727A9-747A-486C-95F2-9328C0AD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F27C907-3231-475D-8304-2129E9E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1CACBF-35F0-4770-A94A-D96B871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4A3EE84-EBC4-43DD-9D79-B87363B4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1AAB1CD-D94E-4E32-AB52-E6A0A96A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617620-006F-44EE-800C-91D1A05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C67FA8B-03CA-44C2-AEDE-A6F14309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3BC5515-0371-4E2C-A385-9F063BE5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9F89-F856-4090-A662-31D8C126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FCF1409-001B-41ED-88AB-E2FD8F0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0B23581-410F-4490-A995-EFEEC6E8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4E5914D-5D43-4993-98A7-F974CBF1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6DF0856-6745-4837-9A63-2E7C1B84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A00364D-042A-4DE2-BCDE-A9F1F6E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54BED93-3D12-4069-8F07-A52783F4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CE1C33-BB9E-4273-972C-9ABFAFE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521F01F-7002-42FC-9C19-89C440F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DEEB229-3494-44C1-A8F4-CA4CF88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71D5045-0415-4EB4-83B2-2823FDC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27864-F374-4E50-AD20-196272E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93162B0-0C6E-4CC4-9276-3A743CB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91D90EF-1B3C-48C2-B134-25E6CF2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1932A8F-D357-425A-AFEC-7E68DDBF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7DEA7DD-ACA7-4194-9E14-C9CF4D64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BD87D2F-26A7-4061-B120-9F3EF7B4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1025FAF-7B39-4F62-ABE8-95EC17FA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DFF4103-EE1F-484D-90EB-502DA31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D870E8F-0597-431D-AB48-F6C95094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855809B-EC05-409B-8A2B-2CBD7D56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2EBF500-17F4-4B12-A9F7-A9EABFB8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AFDE-F1EB-4186-B011-A9CC41B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D31262E-5302-4D1F-B710-C3325FC7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8E468A1-8056-4FCD-B0D4-1F7AB1E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EECC70D-25F4-4C08-BFC2-BED25AA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D19D726-9696-4F93-8415-E199EDD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376BF93-8209-4D37-92F0-A11E93F6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6AF124F-96A1-4D32-96A0-15811E10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66054B1-D3BD-4DA6-BBDB-BD3E92D0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C187FF2-4C59-4E90-8249-2DF7E512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DDEF464-C9DB-4D65-BF44-500648B9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B675D0A-4F11-4B4C-B340-B73873DF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F595-7A1D-43ED-8E59-A2D78154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F4F-9C25-4B8F-A2E5-25A07C04E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657-264A-439A-A891-A11DB193FA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058-6075-41E7-AA39-E70BAB0E43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1F1-2D02-4419-8927-96E176D205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1AA-7A70-4A6F-A1E8-DFB35E037E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498-98CD-4365-898B-1FFC6971D9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3F5D-4908-44C3-B11D-1D657F10D4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4E6-EBB8-4D92-A347-5C1C0B1279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EDE-2754-4824-8F38-89F8F27BDB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5B1-6C74-43B3-B0E9-C1EFA21B4B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2DC-1111-4525-B370-A4D5A19AB3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C14B-4E7E-4879-91BA-A17ABD78C9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0F9-BA6E-4CE1-9930-56ECDA2867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643-4AFC-41C5-85CE-E8DE5A0FB2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EBB-ADB9-450F-9C66-485F33CB6F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AF8-8877-4B93-8843-C4531FC2CE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650-C0EF-4695-9BDB-DBB8EE6CD2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823-CA52-4E01-B80F-1AC7BB9B88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4A9-E99B-4F38-984A-2BC2A73F14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9FF-3982-4C96-BA17-18A681E4A9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3CC-2BAB-4704-81CE-8B515F8B2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7AC-0FEF-4C62-9273-033EA4E293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65DD-204A-4F70-9A3C-7E3DC3F5A9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74F-DC38-4967-AE7B-09D7E72585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C6A7-77FA-452C-85C4-F6E8847DCD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0798-C698-4F85-B8A1-3D02177F76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ABB-90AF-436F-8DD6-CE2897B494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85C-558C-4F86-9916-5208215565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158-1BE4-42AC-AE1B-1EA9A173A4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951-AF62-403F-8189-3C0318910C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302-3781-4833-896B-9558E81B55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9463-49AB-4671-821A-0053F6D19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CD3-4BFA-45FA-B9DB-4E2D8A8111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0460-AC31-4BFC-999F-8C4441CDBE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46F-4CED-45A6-B0D3-1648107307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1C54-9915-43CD-AAE0-AB2C4B4ED5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2E8-42CB-476B-A510-1B690C9EBC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1D5-40C8-4B08-AB5C-F99D7333CC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1DE-4965-4B23-991F-E263BC98BA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4C6-4B53-4DAB-B664-76B0499375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996-9A22-4061-9C7C-7ABB6552C4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796-FD11-435D-8E28-1F7EB6FBE1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D58-416D-49D9-BF31-3628B264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5672-7974-4086-9E06-2BC0FF2D69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E60-BED9-4CF0-B34B-E9E435383D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9D25-C8DA-4477-8158-8F51CD931B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8A4-6639-4C45-BF90-4EF6731844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B77-6FAC-4160-8003-1A2816EBA5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1944-192E-4D05-9988-533D784078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A96F-A035-4F1E-9B11-13D3EA19FA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785-D6DE-4032-8401-FB0631CBB4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D2C3-44C7-412C-A89D-AAE7EB3233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6E30-9100-4340-B47A-60F9B7FC43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19F-8EA2-4DFE-BCDE-FA210B840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548D-8398-4963-BCC4-95B3C60861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503-6724-477B-BF43-B781235EE7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007-1C74-43C9-B41E-DCEB96DA84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396-F792-4438-BB9E-A3E53DD607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0C3-2205-43EF-B763-BFDB2C3622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1CC-75BE-45C4-8387-202400EE73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3906-896B-45B8-8F60-6549870CC3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B27-7C5E-449B-9007-1CC8F3E49D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9B68-4D0F-4888-A4CC-E81972A8E2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FA6-6850-4182-8DDB-98F5D354A1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1A7-7E67-476D-9F88-30440654C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F42-8CEF-4059-9AE1-F52E9AB226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725-3FDC-4DA2-B5EE-1C03408E6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6731-DEB0-4295-AA94-6077B1EBEC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C86-F780-482E-B17D-F94474609E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DDD-0B02-4AFE-BA0C-A54E0005CD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F3C0-96C1-404E-91FD-D420674132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2B4-808A-4AA1-AA1D-46E2722D18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3BE-A6E4-4F21-849B-A7C4F8C61A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C70-1E92-4B72-802E-27480326EA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8534-8CB6-431E-9971-F0C7E0A9C0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3B0-DBFA-472F-B0EE-312C79D4C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10B-4BE5-449B-95C6-B39A420403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B75B-7CEE-46C2-AA6E-A5D9CE93BD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950-BB7A-45CF-9686-DC54AF46C1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614-D1FA-4586-9D02-4ADEC5B461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08FD-32ED-44DE-BC4B-BB9F960BB4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4A7-93F7-45A9-8C8A-83FA713AA6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6757-2859-41A7-87DF-3723E48177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F11-971A-4E45-9221-14B03D4819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473-0B47-4D89-B7A6-3EDF0F6942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2AF-34E5-4CB0-9D54-C86A5449D9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FAEA-F39D-4324-B981-F9B85C1F9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90CD-49A8-42A2-95C6-6AA9B3AAE3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0D15-82FE-4976-B76A-B9AA40A96B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545-F783-4321-BE6D-2653150A53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840-812B-4FC2-934D-521A97D59D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EC52-97A7-4838-ADDF-060035FC7D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C2E7-8D96-4F6A-903C-03A534DD8F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65D-6B3A-479B-A160-FBB15E4D1D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7F5-3961-4A31-A48B-A0E1FA120F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3EBB-8AC0-43E6-B6D1-83F36DB342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D172-28FF-4C32-B042-79F236F00F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D7D-70B8-45EC-B62B-66E4623DC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13D-5785-4F05-8BC8-52085982E8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14F-57A7-4F45-A4F5-F27F473381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87E-7CA8-4836-B8C1-1331B75BDC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3AA-FCF4-46C7-8201-F59226F15B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9846-7A7B-4181-9C2B-95D1AFD216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92D-030F-492E-8330-81BFA19FC2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C58-EDE9-4B15-B21D-ED8AF202EB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710-0F2F-423D-B6E9-5E23B938D0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4D0-39C9-4153-8E39-BF45DA012B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59D3-84DC-4730-BEB7-45CA008912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Aggregat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 Group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AT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ng concatenati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used to combine several fields into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AT(fieldOne, “ “ , fieldTw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AT(firstName, “ “, last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S to make it pretty o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_CONC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all values for a field into a singl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GROUP_CONCAT(alp_color) FROM alp_inventor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s a single field with all colors in the table, with comma sepa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5" name="Picture 2" descr=""/>
          <p:cNvPicPr/>
          <p:nvPr/>
        </p:nvPicPr>
        <p:blipFill>
          <a:blip r:embed="rId1"/>
          <a:stretch/>
        </p:blipFill>
        <p:spPr>
          <a:xfrm>
            <a:off x="2133720" y="4724280"/>
            <a:ext cx="44956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BY cla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"/>
          <p:cNvSpPr txBox="1"/>
          <p:nvPr/>
        </p:nvSpPr>
        <p:spPr>
          <a:xfrm>
            <a:off x="45720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BY eliminates duplicates and drops nu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BY drops duplicates as selection is being m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COUNT(*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able GROUP BY Siz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8" name="Picture 3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4771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– identifies initial set of records to be selected from th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BY – sorts selected records into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gate functions then compute summary values for th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– Identifies groups to be returned for final result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UNT, GROUP BY can determine how many rows are included in a group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ooks of each type do w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ype, COUNT(*) As 'Number of Books' FROM re_title GROUP BY 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average price for each categ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ype, AVG(retail_price) AS 'Average Retail Price' FROM re_title GROUP BY 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average price in specific categ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ype, AVG(retail_price) AS 'Average Retail Price'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re_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type IN ('Mystery', 'Gothic', 'Horror') GROUP BY 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HERE clause alway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grouping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AVING clause always com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rouping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ype, AVG(retail_price) AS 'Average Retail Price' FROM re_title GROUP BY typ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 AVG(retail_price) &gt; 9.0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BY AVG(retail_pric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BY Limitation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 txBox="1"/>
          <p:nvPr/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BY does NOT act as a way of sorting by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BY is an AGGREGATE function, so it treats the grouped rows as a single 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table GROUP BY Si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9" name="Picture 2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66294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 want to see inventory items by col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alp_inventory GROUP BY alp_co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ive only the first row of each color that it encou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BY is NOT a way of sorting rows into groups. (That would be the job of an ORDER BY claus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Ba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n Alpine Adventures DB, show the alp_inventory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ySql query: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lp_color, MIN(price) FROM alp_invent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lor associated with the price, then examine the whole table to see if it’s correc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want to know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ows are in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ing a column’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ing numeric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minimum or maximum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-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ry within a Query is a Sub-Qu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Queries often use aggregat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how all items whose price is below the the average price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alp_inven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price &lt; (SELECT AVG(price) FROM alp_inventory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: River’s End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average price of all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VG(retail_price) AS AvgPrice FROM re_tit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books whose price are above the averag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re_title WHERE retail_price &gt; (SELECT AVG(retail_price) FROM re_tit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Mystery books whose price is above the averag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re_title WHERE type LIKE 'Mystery' AND retail_price &gt; (SELECT AVG(retail_price) FROM re_tit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gation o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returned rows or values as a single unit based on some characteristic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AT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D() or STDDEV(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 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INCT cla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s Duplicate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es not sort the records in the retu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election is made and then the duplicates are dro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s an example of the field or group of fields in the SEL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ull value is seen as a unique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action as a GROUP By clause which also drops dupl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head on DISTINCT can be very high and should be used with caution on large t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TextBox 5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DISTINCT alp_color FROM alp_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returns the distinct colors i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s rows or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 (*) returns the number of 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() returns number of non-nulls in the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(Expression) returns the number of non-null values for th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(DISTINCT Expression) returns the number of unique non-null values in th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() and MAX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(fieldName) returns the minimum value in that column /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(fieldName) returns the maximum value in that column /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used with GROUP BY provides summary for each group in the selected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e GROUP BY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() adds all the numeric values in a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sed with a GROUP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G() and STD() or STDDEV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G(fieldName) returns the numerical average of all values in the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D(fieldName) returns the standard deviation around the arithmetic mean (ave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tudents are in the data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Stud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ice of books in River’s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AVG(retail_price) AS 'Average Retail Price' FROM re_tit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ooks in st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SUM(qoh) AS 'Total Books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re_tit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13:31:50Z</dcterms:created>
  <dc:creator>John Wyatt</dc:creator>
  <dc:description/>
  <dc:language>en-US</dc:language>
  <cp:lastModifiedBy>Wyatt, John</cp:lastModifiedBy>
  <dcterms:modified xsi:type="dcterms:W3CDTF">2014-08-13T16:41:52Z</dcterms:modified>
  <cp:revision>15</cp:revision>
  <dc:subject/>
  <dc:title>SQL Aggregate Functions</dc:title>
</cp:coreProperties>
</file>